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7B87-E2A8-4CFB-9FA3-09389B2217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E0C9-D869-4369-A600-1A209A3AB4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951A-C1E4-4127-879B-045D073EEA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F770-9275-4B09-A520-F100A86CE1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314-F304-4CCD-B8D3-F7AA6BE1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4F7-F7FD-467E-B50A-2B387205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6E2-CC79-46FE-BA29-4BCD4CD9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95A-C4D3-4335-9170-6905B172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9576-56C6-4A1C-8447-4FB70099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48A2-509D-4D5C-A375-BA95D008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9AD6-5CAF-4FFD-9975-A0F7674C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A37C-AE98-4DDC-A2C5-5FB55568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F324-30E0-4ECE-B255-54EB8CD4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2B18-E0E2-4C91-BBA3-B62E0535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CE4B-974D-4898-94E9-9BAA0C2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B27-B112-4150-989E-3AF1C619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C1B6-344F-4AAE-B61C-E2D2E5C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614C-2011-488B-9F6B-F554870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D808-B314-48E4-9582-E62A3549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5540-A6A7-465C-A592-714C8E4E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35D1-3183-411A-AADB-4C94D764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A56A-E028-434A-AC8D-53CA7E50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C5D5-817B-4F78-AE60-C847FE3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935F-7DCD-44C7-A48B-A10C856A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2F0D-492A-4C26-B0FE-D99B63DB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2AE8-2371-4996-80D2-967A3773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44A-6F13-4703-AA1C-7EA2B97D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E31C-97B9-4AE3-9288-EB5B6FE2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802E-C388-4C19-B5B3-7E25965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09FB-BF7A-447F-9195-D380A953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EA54-D8B7-4A34-85C0-500F50EB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1145-1C66-447B-8443-3F52E5B2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8BC3-D1B3-41C8-AA9A-1D8731AB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4CEB-7853-46B4-9B8B-36D68CB9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04CF-011E-4A07-B18D-2DB45DD9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17D6-7C83-4764-85D1-10BAAA8C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030D-3949-4ADE-AD28-2C1902ED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239-C0B4-4031-98B8-F9CE74F2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FA46-AE8A-46F4-8354-281B2539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0D720-526A-4C98-91EC-6E7DB829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CF13-46D3-43A0-97B2-C67AB1B4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F93E-E565-4648-A2B2-E853FC6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A008-0624-438E-921A-B6067F8F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896E-0E2B-47FA-8D72-5B87983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9CE4-BAC5-469E-A05E-296FA8B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0307-B5B0-4029-8295-1D2FFE94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C07F-2E10-43AF-81EC-9C1773F2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182E3-7F3B-43A4-8793-78D1AE56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661-59F4-4D93-A3B0-3851AF3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6446-D896-411F-ADA8-DC2D0E54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295A1-1ED6-481C-A1BE-57B6A907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2021-BD90-4FFF-BFF9-B8D3B7FE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EEAFA-751E-4A95-BFEC-9A6F3A5F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DBB75-1567-45B7-820F-EF11AA2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C1664-E828-4C36-A20D-50732629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C7E9C-7E51-496E-9A2E-531AEF0F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05B6-9B65-4FA3-A943-56D230C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2CA7A-020D-414E-AF76-1810B0E8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35CB-D4E9-4AD2-B54B-85FB58C8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EBA-F218-4E14-9799-821797B5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DD006-0C96-4701-AC5C-CD7B29B9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777-5017-4093-AB50-34F00FA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2A0-91F6-4DEF-B013-90BFD9C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7C1-E326-43F2-8641-1122B450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2DA9-6279-4A29-9584-0A3B5AA90E0B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28B4-68C9-433E-AD22-1544350543FA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FEA3-03CE-4386-9288-2AA63A0A44A8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094E-E358-49D1-A43C-3019FA642AE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874-B812-4E4F-8A04-27708833CB63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9B2-C352-4013-B81B-1E12B2BC8A65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3A4-07D2-465E-8354-966EE350C3E1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E5EC-8D63-49A1-8519-8E2A81649870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7E19-D2EB-4AE6-A56A-608FA4915022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210A-6A18-4722-A897-374ABA8B9C6B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ОБОТОТЕХНИ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В  НАЧАЛЬНОЙ ШКОЛ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50920" y="2690640"/>
            <a:ext cx="87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57120" y="47149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 работу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айкина Татьяна Владимировна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Кузнецк, 20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1873080" y="1090440"/>
            <a:ext cx="5540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3" descr="3.jpg"/>
          <p:cNvPicPr/>
          <p:nvPr/>
        </p:nvPicPr>
        <p:blipFill>
          <a:blip r:embed="rId1"/>
          <a:stretch/>
        </p:blipFill>
        <p:spPr>
          <a:xfrm>
            <a:off x="6329520" y="3424320"/>
            <a:ext cx="2743200" cy="1647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6e94"/>
                </a:solidFill>
                <a:latin typeface="Arial Black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Скругленный прямоугольник 8"/>
          <p:cNvSpPr/>
          <p:nvPr/>
        </p:nvSpPr>
        <p:spPr>
          <a:xfrm>
            <a:off x="3500280" y="2857680"/>
            <a:ext cx="2143440" cy="2714400"/>
          </a:xfrm>
          <a:custGeom>
            <a:avLst/>
            <a:gdLst>
              <a:gd name="textAreaLeft" fmla="*/ 104400 w 2143440"/>
              <a:gd name="textAreaRight" fmla="*/ 2039040 w 214344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3">
                <a:moveTo>
                  <a:pt x="3600" y="0"/>
                </a:moveTo>
                <a:arcTo wR="3600" hR="3600" stAng="16200000" swAng="-5400000"/>
                <a:lnTo>
                  <a:pt x="0" y="23753"/>
                </a:lnTo>
                <a:arcTo wR="3600" hR="3600" stAng="10800000" swAng="-5400000"/>
                <a:lnTo>
                  <a:pt x="18000" y="27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ff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ая аудитория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5 л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257184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Рисунок 11" descr="1.jpg"/>
          <p:cNvPicPr/>
          <p:nvPr/>
        </p:nvPicPr>
        <p:blipFill>
          <a:blip r:embed="rId2"/>
          <a:stretch/>
        </p:blipFill>
        <p:spPr>
          <a:xfrm>
            <a:off x="2928960" y="957240"/>
            <a:ext cx="3224160" cy="182880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9"/>
          <p:cNvSpPr/>
          <p:nvPr/>
        </p:nvSpPr>
        <p:spPr>
          <a:xfrm>
            <a:off x="5857920" y="92880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91a7c4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часо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лока по 24 заняти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Рисунок 12" descr="2.jpg"/>
          <p:cNvPicPr/>
          <p:nvPr/>
        </p:nvPicPr>
        <p:blipFill>
          <a:blip r:embed="rId3"/>
          <a:stretch/>
        </p:blipFill>
        <p:spPr>
          <a:xfrm>
            <a:off x="0" y="362412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261" name="Скругленный прямоугольник 7"/>
          <p:cNvSpPr/>
          <p:nvPr/>
        </p:nvSpPr>
        <p:spPr>
          <a:xfrm>
            <a:off x="357120" y="107172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П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o We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13880" y="285480"/>
            <a:ext cx="76647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 LEGO Education WeDo дает возможность ученикам собрать и запрограммировать простые модели LEGO через приложения в компьютере. В наборе 158 элементов, в том числе двигатель, датчики движения и положения, а также LEGO USB Hub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коммутатор). Совмещая программно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и учебное пособие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выполнить 12 тематических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Рисунок 5" descr="http://cache.lego.com/r/education/-/media/LEGO%20Education/Home/Images/Products/WeDo/ts.20100922T104512.9580_713x380_MainProduct.png"/>
          <p:cNvPicPr/>
          <p:nvPr/>
        </p:nvPicPr>
        <p:blipFill>
          <a:blip r:embed="rId1"/>
          <a:stretch/>
        </p:blipFill>
        <p:spPr>
          <a:xfrm>
            <a:off x="4788000" y="2133720"/>
            <a:ext cx="5284800" cy="2811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06e94"/>
                </a:solidFill>
                <a:latin typeface="Arial Black"/>
              </a:rPr>
              <a:t>ТЕМАТИЧЕСКИЙ БЛОК "ЖИВОТНЫЙ МИР"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57160" y="907560"/>
            <a:ext cx="75218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птич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а-барабанщ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лодный аллигатор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хающая 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ычащий лев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кротит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йка-барабанщик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ягушка-квакушк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ар-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лшебные рыб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утята и пингвинят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и на карус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062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</a:t>
            </a: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ДЕТЕЙ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57160" y="1125000"/>
            <a:ext cx="45784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ышления, навыков конструирования и программирования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го мышления и изобретатель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лкой моторики, внимания, аккурат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я мотивации к созданию собственных разработок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иск качественного результата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ответственности при командной работе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ы и состязания в результате в целях к мотивации к обучению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630760" y="1484280"/>
            <a:ext cx="3114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 ВЗРОСЛЫ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56800" y="1125000"/>
            <a:ext cx="79628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ть представление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роботах в России и мире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жпредметных связях робототехники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рамках ФГОС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перспективах развития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тодических основах проектной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основных направлений образования робототехники и основных международных робототехнических стандартах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планировать виды 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основными понятиями образовательной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материальными знаниями: название деталей, моделей роботов, основами программирования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907920"/>
            <a:ext cx="9144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Конструктор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ГО помогает детям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м воплощать в жизнь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и идеи, строить 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антазировать, увлечённо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я и видя конечный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7" name="Picture 7" descr="G:\Camera\IMG_20141111_113151.jpg"/>
          <p:cNvPicPr/>
          <p:nvPr/>
        </p:nvPicPr>
        <p:blipFill>
          <a:blip r:embed="rId1"/>
          <a:stretch/>
        </p:blipFill>
        <p:spPr>
          <a:xfrm>
            <a:off x="5508720" y="260280"/>
            <a:ext cx="3432240" cy="4576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2"/>
          <a:stretch/>
        </p:blipFill>
        <p:spPr>
          <a:xfrm>
            <a:off x="7502400" y="5229360"/>
            <a:ext cx="142740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1" descr=""/>
          <p:cNvPicPr/>
          <p:nvPr/>
        </p:nvPicPr>
        <p:blipFill>
          <a:blip r:embed="rId1"/>
          <a:stretch/>
        </p:blipFill>
        <p:spPr>
          <a:xfrm>
            <a:off x="723960" y="606600"/>
            <a:ext cx="7043760" cy="447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28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КТО ТАКОЙ РОБОТ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7160" y="856800"/>
            <a:ext cx="75218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rcRect l="0" t="15107" r="0" b="0"/>
          <a:stretch/>
        </p:blipFill>
        <p:spPr>
          <a:xfrm>
            <a:off x="1363680" y="914400"/>
            <a:ext cx="6438960" cy="409896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РОБОТЫ ЖИВОТНЫ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Объект 2" descr=""/>
          <p:cNvPicPr/>
          <p:nvPr/>
        </p:nvPicPr>
        <p:blipFill>
          <a:blip r:embed="rId1"/>
          <a:stretch/>
        </p:blipFill>
        <p:spPr>
          <a:xfrm>
            <a:off x="1117440" y="1125360"/>
            <a:ext cx="3365640" cy="187200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3"/>
          <a:srcRect l="12986" t="0" r="19290" b="0"/>
          <a:stretch/>
        </p:blipFill>
        <p:spPr>
          <a:xfrm>
            <a:off x="5402160" y="914400"/>
            <a:ext cx="3113280" cy="2585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"/>
          <p:cNvPicPr/>
          <p:nvPr/>
        </p:nvPicPr>
        <p:blipFill>
          <a:blip r:embed="rId4"/>
          <a:srcRect l="12706" t="0" r="23621" b="8164"/>
          <a:stretch/>
        </p:blipFill>
        <p:spPr>
          <a:xfrm>
            <a:off x="684360" y="3208320"/>
            <a:ext cx="345600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"/>
          <p:cNvPicPr/>
          <p:nvPr/>
        </p:nvPicPr>
        <p:blipFill>
          <a:blip r:embed="rId5"/>
          <a:srcRect l="1962" t="22000" r="1962" b="12201"/>
          <a:stretch/>
        </p:blipFill>
        <p:spPr>
          <a:xfrm>
            <a:off x="4583160" y="3500280"/>
            <a:ext cx="4201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1116000" y="7920"/>
            <a:ext cx="6699240" cy="502452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АЛГОРИТМ РАБО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57160" y="907920"/>
            <a:ext cx="752184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rcRect l="0" t="0" r="0" b="13250"/>
          <a:stretch/>
        </p:blipFill>
        <p:spPr>
          <a:xfrm>
            <a:off x="1751040" y="907920"/>
            <a:ext cx="4802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2286000"/>
            <a:ext cx="77155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ИНТЕРГ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57160" y="1699920"/>
            <a:ext cx="75218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еч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4" descr="C:\Users\KOTYA\Desktop\1394011927_0848.1000x800.jpeg"/>
          <p:cNvPicPr/>
          <p:nvPr/>
        </p:nvPicPr>
        <p:blipFill>
          <a:blip r:embed="rId1"/>
          <a:stretch/>
        </p:blipFill>
        <p:spPr>
          <a:xfrm>
            <a:off x="4572000" y="1484280"/>
            <a:ext cx="4321080" cy="3219480"/>
          </a:xfrm>
          <a:prstGeom prst="rect">
            <a:avLst/>
          </a:prstGeom>
          <a:ln w="0">
            <a:noFill/>
          </a:ln>
        </p:spPr>
      </p:pic>
      <p:pic>
        <p:nvPicPr>
          <p:cNvPr id="25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26920" y="260280"/>
            <a:ext cx="75218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анный конструктор позволяет детям работать в качестве юных исследователей, инженеров, математиков. Ребята собирают и программируют действующие модели, а затем используют их для выполнения задач, по сути являющихся упражнениями из образовательных областей: социально-коммуникативные, познавательное и речевое развитие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3:21:41Z</dcterms:created>
  <dc:creator>1</dc:creator>
  <dc:description/>
  <dc:language>en-US</dc:language>
  <cp:lastModifiedBy>Пользователь</cp:lastModifiedBy>
  <dcterms:modified xsi:type="dcterms:W3CDTF">2020-08-25T11:35:40Z</dcterms:modified>
  <cp:revision>60</cp:revision>
  <dc:subject/>
  <dc:title>Реализация общеинтеллектуального направления на внеурочных занятиях с помощью конструктора  lego education wedo</dc:title>
</cp:coreProperties>
</file>